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53E2-4801-494A-A483-ADB42A49E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8839-EBE6-4EB3-B8EE-5654880F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A1ED-5931-49E0-A337-2892667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4612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84028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5196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4612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84028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B87B-468F-4077-8221-FFBD994D6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101FF-BB34-4AA0-BBAD-8F66EDDD2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55F27-7036-40B4-A600-EB37177C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A83EE-1856-4465-A70D-3B7F40AD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388AE-15E9-4C39-A19A-20BE7080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3271B-6B80-4A0E-8FA2-7188CA56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51960" y="488520"/>
            <a:ext cx="78361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7F2E3-4A57-4B1C-A6D5-6700BD7F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64A49-1099-40BF-8B49-EA161FE7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28FE-2570-4713-81EA-AE478D76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03536-7AC5-45B3-8701-A5E67FF8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C333E-7DF1-4AAA-A92B-49EC38B8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49461-A799-4AFD-A6F9-DD3A394F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66BFB-4C80-442C-892C-24C46FCE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4612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84028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5196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4612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84028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31A50-CCA7-4D48-B5B5-BEBA05ECB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CB2C7-3BB0-4557-9CB6-F75DAC70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F437F8-1832-4BCE-9327-8533A03A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6A1814-03F7-4C78-804D-1F83EEC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493FE-5A23-472B-9D6F-AB8B35A8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674B0-16DA-47DF-B7B3-66A767A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F588-FEC6-4411-A543-4F930559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1960" y="488520"/>
            <a:ext cx="78361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7825D0-055C-4E79-B2EB-175570ED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0C9DB-B1A3-44E0-8BCF-F6BCB21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86B8A-C425-49CD-BE47-2574ABB3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6F80C-6E82-4AE5-8E5F-9FAF48D1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B7DB0-B02C-4D14-98B4-A96CAD88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05C8D1-93C7-40F8-9E21-EC3BA31C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4612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4028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196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4612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4028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3C0D3-A51E-4EB6-86DE-9421437A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48E36-DBD9-437E-AC26-8A5A4EA5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9068E-C90A-46C5-80D0-101D5FF9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A611C-7B6A-4D3C-888D-231EF5A8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B3A8-581B-4D9F-89DF-7DE8B72D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6D8BF-B0D7-4BDF-9D2A-FE7B50C7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D847F-DF59-4C04-972B-B7A2FCC3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1960" y="488520"/>
            <a:ext cx="78361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6F4CB-0482-48DC-9B49-8ED9080A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4BB57-6F90-4AFC-8C86-F6FD0949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855A2-B5D1-4DC4-8BAF-CC45DA98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4AD87-4919-48E1-8AB0-5510EDB3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5D3A4-D693-4E0B-959D-CDD4E87E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334EEC-773C-427B-9A49-224FD71F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612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4028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196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612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4028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F8C0D-AEF6-42E6-B1D2-CB85076A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C7AF50-A885-4017-8022-3BCF5126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5010-BDB9-4A90-BE95-FE16E96E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F935EB-1167-4820-AC49-50CE2E5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FC8A8-44EC-4F30-97D0-EBC36CD7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64CAA8-BBDE-4C43-8663-89E82010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383C98-FAA3-4A17-8FFB-98458727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51960" y="488520"/>
            <a:ext cx="78361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A717F0-E417-4AA6-A953-D0DAB6CE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8DF9F-41E8-488F-882D-B0E64FB9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6AB08A-202F-4595-9C32-CD7BF13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FB9C04-C500-49AA-ABAA-BB559689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CFE29C-E36C-474C-9DF7-64692147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1BD2D2-7136-4936-A5E2-B6CD3C9C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51960" y="488520"/>
            <a:ext cx="78361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091D-FDCA-43A8-AE6B-D6DFBAB4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4612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40280" y="179496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5196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4612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40280" y="3585240"/>
            <a:ext cx="247032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5FD0A-2654-4346-9E12-D322A970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E914-02E2-4C0C-B82F-65B28873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83520" y="358524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A265-87EF-4826-B319-C0158F6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83520" y="1794960"/>
            <a:ext cx="374400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1960" y="3585240"/>
            <a:ext cx="7672680" cy="163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C0CF-17C3-42BE-BD10-E99C47E2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362480" y="1050840"/>
            <a:ext cx="42048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3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304920" y="6410160"/>
            <a:ext cx="3581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267080" y="211608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4362480" y="2209680"/>
            <a:ext cx="42048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ldNum" idx="2"/>
          </p:nvPr>
        </p:nvSpPr>
        <p:spPr>
          <a:xfrm>
            <a:off x="4343040" y="219996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20F61-2943-413C-9424-816CB0D988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title"/>
          </p:nvPr>
        </p:nvSpPr>
        <p:spPr>
          <a:xfrm>
            <a:off x="685440" y="380520"/>
            <a:ext cx="77677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62480" y="1050840"/>
            <a:ext cx="42048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Arial Unicode MS"/>
              </a:rPr>
              <a:t>11/3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410160"/>
            <a:ext cx="3581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4"/>
          </p:nvPr>
        </p:nvSpPr>
        <p:spPr>
          <a:xfrm>
            <a:off x="4362120" y="102672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AAA02-0A4F-4138-A8E9-D4DD4D1384A6}" type="slidenum">
              <a:rPr b="0" lang="en-US" sz="1400" spc="-1" strike="noStrike">
                <a:solidFill>
                  <a:srgbClr val="000000"/>
                </a:solidFill>
                <a:latin typeface="Georgi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body"/>
          </p:nvPr>
        </p:nvSpPr>
        <p:spPr>
          <a:xfrm>
            <a:off x="301680" y="1526760"/>
            <a:ext cx="84996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6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7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BFB0A-DF70-48D2-9FAB-E344F8EC0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2320" y="488520"/>
            <a:ext cx="783288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52320" y="1794960"/>
            <a:ext cx="766944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3000"/>
          </a:bodyPr>
          <a:p>
            <a:pPr marL="2844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8"/>
          </p:nvPr>
        </p:nvSpPr>
        <p:spPr>
          <a:xfrm>
            <a:off x="612360" y="571464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9"/>
          </p:nvPr>
        </p:nvSpPr>
        <p:spPr>
          <a:xfrm>
            <a:off x="3101760" y="5732640"/>
            <a:ext cx="2917800" cy="4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0"/>
          </p:nvPr>
        </p:nvSpPr>
        <p:spPr>
          <a:xfrm>
            <a:off x="6361200" y="5732640"/>
            <a:ext cx="2125440" cy="4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7CEE3-0D15-44BE-9248-2B5B68BD7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51960" y="1794960"/>
            <a:ext cx="7672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9000"/>
          </a:bodyPr>
          <a:p>
            <a:pPr marL="2707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1"/>
          </p:nvPr>
        </p:nvSpPr>
        <p:spPr>
          <a:xfrm>
            <a:off x="612720" y="57150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2"/>
          </p:nvPr>
        </p:nvSpPr>
        <p:spPr>
          <a:xfrm>
            <a:off x="3101760" y="5732280"/>
            <a:ext cx="292068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3"/>
          </p:nvPr>
        </p:nvSpPr>
        <p:spPr>
          <a:xfrm>
            <a:off x="6360840" y="5732280"/>
            <a:ext cx="212868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70006-8E45-4CF7-8A86-E8DE55AF9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ott Keling and Gary Dar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Escape From Skybase 17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ory Progression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No story advancement aside from beginning and e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Arial Unicode MS"/>
              </a:rPr>
              <a:t>Situation doesn't change from level to le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Ending is open, lets the player decide how it en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rdware Specification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Had trouble running on the machines during the game fair (unsure of the exact probl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Has no trouble on an old Dell with 2Ghz single core processor, 512 MB of RAM and basic integrated 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Needs minimal graphics accele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ftware Specification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Designed using Direct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Machine needs DirectX installed to run the g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lgorithm Style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Phys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Physics will work by using x and y velocity to move the sprites each fr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Gravity will be applied to the y velocity each frame, making it more negative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Colli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Collision check based on bounding boxes around the sprites/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Floor done using color s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Checks made only when an object's x position (y position on vertical spikes) puts it in place to collide with the charac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nges Since Monday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39840">
              <a:lnSpc>
                <a:spcPct val="93000"/>
              </a:lnSpc>
              <a:spcAft>
                <a:spcPts val="1426"/>
              </a:spcAft>
              <a:buClr>
                <a:srgbClr val="eb613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Fixed sound</a:t>
            </a:r>
            <a:endParaRPr b="0" lang="en-US" sz="2700" spc="-1" strike="noStrike">
              <a:solidFill>
                <a:srgbClr val="006b6b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buClr>
                <a:srgbClr val="eb613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Added story slides into the game</a:t>
            </a:r>
            <a:endParaRPr b="0" lang="en-US" sz="2700" spc="-1" strike="noStrike">
              <a:solidFill>
                <a:srgbClr val="006b6b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buClr>
                <a:srgbClr val="eb613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Added more detail to the controls screen</a:t>
            </a:r>
            <a:endParaRPr b="0" lang="en-US" sz="2700" spc="-1" strike="noStrike">
              <a:solidFill>
                <a:srgbClr val="006b6b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buClr>
                <a:srgbClr val="eb613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Fixed the enter key skipping all of the beginning slides</a:t>
            </a:r>
            <a:endParaRPr b="0" lang="en-US" sz="2700" spc="-1" strike="noStrike">
              <a:solidFill>
                <a:srgbClr val="006b6b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ame Summary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Single player puzzle g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Player uses a jump interface to jump at various heights and 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Must jump over obstacles and onto moving objects to reach level ex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ory Abstract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Main character is kidnapped and used for science 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Given super jumping streng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Is used to test the effectiveness of the proced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Told that if he can pass several obstacle courses, he will be free to 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Arial Unicode MS"/>
              </a:rPr>
              <a:t>But is it tru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earance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Static screen for each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Simple sprites and backgroun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Simple col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Interface consists of power meter, death counter, and mouse curs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Meter fills up as player charges jump streng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Four midi songs in the g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24040" indent="-608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Arial Unicode MS"/>
              </a:rPr>
              <a:t>Title, story, game play, 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800760" y="1371600"/>
            <a:ext cx="514440" cy="638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772400" y="1371600"/>
            <a:ext cx="514440" cy="6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1960" y="488520"/>
            <a:ext cx="78361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terface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1960" y="1794960"/>
            <a:ext cx="767268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39840">
              <a:lnSpc>
                <a:spcPct val="93000"/>
              </a:lnSpc>
              <a:spcAft>
                <a:spcPts val="1426"/>
              </a:spcAft>
              <a:buClr>
                <a:srgbClr val="eb613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Power meter in upper left</a:t>
            </a:r>
            <a:endParaRPr b="0" lang="en-US" sz="2700" spc="-1" strike="noStrike">
              <a:solidFill>
                <a:srgbClr val="006b6b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buClr>
                <a:srgbClr val="eb613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Death count in upper right</a:t>
            </a:r>
            <a:endParaRPr b="0" lang="en-US" sz="2700" spc="-1" strike="noStrike">
              <a:solidFill>
                <a:srgbClr val="006b6b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buClr>
                <a:srgbClr val="eb613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Red mouse cursor to set jump path</a:t>
            </a:r>
            <a:endParaRPr b="0" lang="en-US" sz="27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terface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428840" y="114300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layer Actions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Hold mouse button to charge a jum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Release button and character will jump in the direction from the character to the mouse poi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Takes about two seconds to fully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Can charge jumps in the 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Jumps follow a parabolic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Player will have no air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Use jumps to avoid obstacles and reach (moving) platfor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ies and Motivations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Number of total deaths used for sc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Player goal to reach the do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Lack of air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Causes player to plan a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Puzzle solving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Quick reaction mo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Falling/Moving platforms the player needs to jump off of quick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37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Needs to time when to start the jumping to complete puzz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vel Summary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523880"/>
            <a:ext cx="8534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Three different level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Players automatically transition to next level after completing one by stepping onto the do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 Unicode MS"/>
              </a:rPr>
              <a:t>Levels get progressively har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51:55Z</dcterms:created>
  <dc:creator/>
  <dc:description/>
  <dc:language>en-US</dc:language>
  <cp:lastModifiedBy/>
  <cp:revision>1</cp:revision>
  <dc:subject/>
  <dc:title/>
</cp:coreProperties>
</file>